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048-C5B3-488F-86E0-FD395C6C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D35-91F9-4AC8-AD3A-CEFF0726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40E-C549-46C5-BBF0-CB5089C1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BB80-9DFF-49DA-995B-D4F3AD5C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E8DB-E3A4-47F5-AAC8-E5E577D5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7238-166F-488C-BE71-C31F7ED8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B7BE-7DA6-4363-9A46-C8CD1663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3177-FC32-4BD9-A395-5966B49F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55C9-6D1A-4987-A448-4BC5AAB8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1EDF-BB92-4D73-A7D0-407329EF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269A-AC8C-48FA-8E72-21C1C9B3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0B0-A5E4-4721-8438-E6033541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E0D4-938D-4DE8-A122-B773AE54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D0CA-61DB-49C4-B614-E4129822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92CF-F134-4E6C-8F58-66D7FD43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A015-A78C-4C16-AF90-9B3CCCD2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F49E-C217-4597-AF00-545E1145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3D9-BF9A-41EB-BA9E-9AD7A2B7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310-DD8E-4F65-803A-894C803F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B51-A24B-4CBF-BF86-DA0ECAB4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9B6-AAF3-4357-BD4E-717CA71D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9D1-C08C-4215-A78D-B690FB19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349-1DA8-425A-B06D-3DBAAC5F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0A6-D524-4AD1-B142-3D720D0A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DF05-0C27-47B8-83FA-0C4C847DB363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45A7-2BDD-4C5A-8F57-3AC3C10E53D5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etry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Research/6-8/iSquad Session 1 of 1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Get Going with </a:t>
            </a:r>
            <a:br>
              <a:rPr sz="4400"/>
            </a:b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itation Machine 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iting Internet Resour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ighlight the citation and choose copy from the “Edit” menu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3200400" y="3276360"/>
            <a:ext cx="0" cy="198108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8640" y="990720"/>
            <a:ext cx="2438280" cy="0"/>
          </a:xfrm>
          <a:prstGeom prst="line">
            <a:avLst/>
          </a:prstGeom>
          <a:ln w="23184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iting Internet Resour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nally, paste the citation into a Word document and sav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pen the www.poetry.com website in a new web browser window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nd the “Poem of the Day” and use the information to fill in the form on Citation Machin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opy and paste the citation into a Word documen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nd at least 3 websites about using computers in school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Use the Citation Machine website to format the referen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opy and paste the citations into a Word document and save i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learned how to use Citation Machine to format our references correctl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can teachers and students use Citation Machine in school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use Citation Machine to help students and teachers keep track of sources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have already learned how the internet can be used as a tool for research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en you use websites as a reference you must give the author credit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oday we will learn how to keep track of our references using Citation Machin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iting Internet Resour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itation Machine is a website that we can use to put our saved references in the correct forma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iting Internet Resour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rst, open the Citation Machine website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http://citationmachine.ne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n, click on the APA format tab from the menu on the lef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228600" y="1828800"/>
            <a:ext cx="76320" cy="137160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37720" y="1704960"/>
            <a:ext cx="213372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iting Internet Resour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oose “web page” from the Non-Print secti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ll out the form with the website information and click the “Submit” butt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215720" y="3098880"/>
            <a:ext cx="2057400" cy="0"/>
          </a:xfrm>
          <a:prstGeom prst="line">
            <a:avLst/>
          </a:prstGeom>
          <a:ln w="76320">
            <a:solidFill>
              <a:srgbClr val="212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838080" cy="380880"/>
          </a:xfrm>
          <a:prstGeom prst="ellipse">
            <a:avLst/>
          </a:prstGeom>
          <a:noFill/>
          <a:ln w="2844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1752480"/>
            <a:ext cx="1752480" cy="457200"/>
          </a:xfrm>
          <a:prstGeom prst="ellipse">
            <a:avLst/>
          </a:prstGeom>
          <a:noFill/>
          <a:ln w="2844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3-11T19:32:16Z</dcterms:modified>
  <cp:revision>20</cp:revision>
  <dc:subject/>
  <dc:title>Workshop Title</dc:title>
</cp:coreProperties>
</file>